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40EA-C3A9-49CB-A23D-C5E20C6D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019C8-5B1F-4FFF-AF52-8EF026FB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59B2-70C9-44C3-BACF-C94B06FB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29AB-C54F-43E4-B80F-428D689B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2896-F3DA-4B9F-8B72-249D34D4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419A-9D46-4DCE-A322-A78B79B5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887A-2D97-4BE9-B255-7C0B66F4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4904-189B-4363-9D0C-AD11307F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86FD-234E-4376-A4F2-C7628D6C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770B-62CE-4D01-99F5-99ADA660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ED9D-09B3-4C6B-B6CD-4CD0B533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DDF4-062B-410F-86EA-D3C043F1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BE93-40CC-4E62-8306-DB46B164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0A15-5894-4A8A-BE5A-339BD76E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3233-DCAB-4009-AFCF-C98E4ACA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0015-7C7C-4A61-813A-D5936D1B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BDB9-11FB-473B-A990-42616821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9E00-EAD5-4193-BBA6-CCB4EFB7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CF3BE-CE29-4FB1-8E7E-DC6DEF00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C6FE-7D03-4403-B75C-63D421DE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5D38-B634-4F1F-939D-5F02E751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FD8BA-8923-4282-A823-3DBF1460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F1873-F3DD-44EF-AD1C-D041B069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7972-CA8C-4D7C-BA49-31EF7E20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55C6-6986-46CA-919D-9912B985F867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9E00-D61D-4744-B26A-DF70859C50E7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828800"/>
            <a:ext cx="7444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Reģionālās attīstības </a:t>
            </a:r>
            <a:br>
              <a:rPr sz="4600"/>
            </a:b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tīspusējās sadarbības apakšpadome (RATSA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Ziņo: Valda Smirnov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RAPL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SA uzdevu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drošināt un veicināt valsts, pašvaldību, darba devēju organizāciju un to apvienību un darbinieku arodbiedrību sadarbību un līdzdalību reģionālās attīstības nodrošināšan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SA 2007.gada darb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kušas 3 sē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tītie jautāj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sts ilgtspējīgas attīstības stratēģijas izstrā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LM darbības stratēģ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ilnvērtīgu novadu pašvaldību izveidošanu un esošo reģionālo struktūru funkciju pārņemša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ašvaldību informatizāciju un interneta pieejamīb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ajonu reorganizāci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eģionu attīstību Latvijā 2006.gad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blēmas RATSA darb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0280" y="2004480"/>
            <a:ext cx="793116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alībpuses problēmas neidentificēja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(RATSA 25.02.2008. sē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.gada sēžu graf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1.aprīl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acionālā attīstības plāna ieviešanas galvenie darbības virzieni 2008.gad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dlīniju projekts valsts, reģionālā un vietējā līmeņa pārvaldes institūcijām plānošanas sistēmas efektīvas darbības nodrošināš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lv-LV" sz="1800" spc="-1" strike="noStrike">
                <a:solidFill>
                  <a:srgbClr val="000000"/>
                </a:solidFill>
                <a:latin typeface="Arial"/>
              </a:rPr>
              <a:t>(OECD LEED un RAPLM izstrādātas)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6.jūnij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pašvaldību finanšu izlīdzināšanas modeli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5.sept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un paveikto 2008.gadā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0.okto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lsētu politikas pamatnostādņu izstrādes gaita (Pilsētu politikas pamatnostādņu 1.redakcijas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8.dec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lsts pārvaldes dekoncentrācija un reģionālā pārvaldes līmeņa attīstī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eģionālās politikas pamatnostādņu vidusposma izvērtējuma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37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utājums, kuru būtu jāvirza izskatīšanai uz NTSP sēd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2008.gad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lānotais laiks 2008.gada II pusg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rosinātājs Līvija Marcinkēviča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LBAS priekšsēdētāja vietniece, RATSA vadītājs no LBAS p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dies par uzmanību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7:27:34Z</dcterms:created>
  <dc:creator>user</dc:creator>
  <dc:description/>
  <dc:language>en-US</dc:language>
  <cp:lastModifiedBy>Sanita Diediske</cp:lastModifiedBy>
  <cp:lastPrinted>2006-08-14T10:58:26Z</cp:lastPrinted>
  <dcterms:modified xsi:type="dcterms:W3CDTF">2008-05-09T08:35:15Z</dcterms:modified>
  <cp:revision>30</cp:revision>
  <dc:subject/>
  <dc:title>Mērķis</dc:title>
</cp:coreProperties>
</file>